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435-8968-41B8-92C3-4462387A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21D-034C-4DE7-AE41-E09F4ABA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123-DF6B-42DD-BED4-34BC0085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7A6-CCED-4A4B-A626-27B11945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B3C78-5008-45BA-BB3A-CE35D28D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91EB6-8D7A-48D5-B948-3017D2FD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4F7A2-A9F8-42A0-84CD-39F6CF72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5D7E4-BC2B-4E9C-9CD1-2BF6A2A5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E068F-6049-419A-AED6-48A11655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09469-EB94-4884-88C8-330AE7AB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E653B-C393-436B-A774-0504D452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CB96-FBC9-4425-9583-3BDEACD1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6420C-020F-4C7C-B72A-DBA0B4A4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9ADD7-7394-4CA4-81E3-2930E666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BFE8D-128C-4FE4-8F8D-0C6E7A16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96079-404F-401B-A0D3-FD4D94E7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C8A7E-0851-40E4-B9D9-C710AC4F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772-5E9E-4B6D-BFCF-419E602A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0A6-8754-4D55-A45A-0BE09547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C5B-53C4-4BCE-9174-D252E8C4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2C1-DA4A-4B5E-A93B-7E7E4E4C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763-2DB7-4905-ABCA-586C6C11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F8B-5696-46BE-A4F3-5B2CB793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CE5-B7D2-4FC3-AC89-0DEF7CD4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2E0F-E50E-4B46-A4FF-D1CE766D8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9DCA-1891-4537-AB2B-104CE402E5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4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-12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6 - Time budget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-to-end timing consider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leness - when is data too ol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mission queu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rece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7 - Reliability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SS redundancy issues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DL Manag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00040" y="1905120"/>
            <a:ext cx="634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4 - FATDMA planning and operation of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FATDMA configuration setup of AIS shores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orithm to calculate the FATDMA geographical gridscheme on a global ba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7 - Channel Management by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Channel Management for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the use of DSC capabilities with regard to the A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ations with regard to DSC channel management comm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Channel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5 - Assigned mode operation of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Assigned Mode operation by ans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8 - General loading management by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city balance of the AIS VDL by AIS Service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ces operating on the VDL simultaneous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lementaton, installation and mainten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2413080"/>
            <a:ext cx="82296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0320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3 - Recommendation regarding efficient operation and maintenance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maintenanc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specific for the AIS service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2 - Installation guidelines for AIS shore st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guidance for installation of an AIS shore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on between AIS related services and other (maritime mobile) services operating in the same shore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ressing coverage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ght be covered by referencing to another pap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thing might come from the guide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-12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86080" y="190512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nctional components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28720" y="1905120"/>
            <a:ext cx="568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3 - Interaction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action between the components of the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layerd structure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The layers of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0 - Functional description of the P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Repea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 AIS Shore Station L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secondary syncronisation by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9 - Functional description of the L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case of the Logical AIS Shore 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on retransmission using VDM from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lines: retrans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1 - Functional description of the AS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cases of the AIS servic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6 - DGNSS broadcast from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DGNSS correction broadcast from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facing the DGNSS correction service to the AIS Base 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DGN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s re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ous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2921040"/>
            <a:ext cx="822960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rvice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47760" y="1905120"/>
            <a:ext cx="664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 - AIS Service Generic Use Cases (Basic AIS service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unctional interface between the shorebased applications and the AIS Servic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Basic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Other material: e-NAV1-09-07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Divide into ?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External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hese are the services provided to higher layers, for which interfaces are required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Internal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covers internal management aspect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ailurre handeling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tefa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4 - Data and data storage / mining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62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mining outside the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5 - Interfacing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S Data Transfer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idelines: Data trans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ploying TCP/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P protocol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rocessing and interfacing to the AIS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saging sentences / 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'IALA sentences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IEC sentences (Base station sentenc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8 - Test model for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ign condir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2516040"/>
            <a:ext cx="82296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5:27:09Z</dcterms:created>
  <dc:creator>Jens Kristian Jensen</dc:creator>
  <dc:description/>
  <dc:language>en-US</dc:language>
  <cp:lastModifiedBy>Jens Kristian Jensen</cp:lastModifiedBy>
  <dcterms:modified xsi:type="dcterms:W3CDTF">2007-01-19T15:27:15Z</dcterms:modified>
  <cp:revision>1</cp:revision>
  <dc:subject/>
  <dc:title>A-124</dc:title>
</cp:coreProperties>
</file>